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4764-878E-4AAF-8E26-747033A0F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E69E-9881-4677-81ED-F63A5C86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BAA8-DF90-44ED-9248-97626AD7A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1E9C-AC5F-476D-BA0C-21AB8B4EA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DBE3-DB74-4EC3-A542-34D52ABB6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735C-70C7-468A-84EE-C1B2E595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83C5-C753-435C-A7BC-22FE1DFA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9EEC-EB3E-45F5-BD3E-DF635ABD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2C02-FE7D-43B3-98F8-11095C25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2BBB-3BB0-4487-8739-6E19652E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927A-BEE1-445D-B232-D07EF330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B4E4-D95E-49AC-84F6-299132D0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6969-328E-46BF-9CD6-3372624A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5705-A44C-4FF3-8853-2F2FFA6C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4528-112C-4368-80A0-6728A168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4949-61B3-4ECC-BC61-AB0F4A8E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E86C-341E-4C8C-8316-CDC71E08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AFF0F-FC76-4640-9DA4-D35A2D61C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2B39A-3F3D-4EE0-9502-2DFF3E86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AA468-7152-47E4-88B0-55B995AC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BEACC-77A4-4BF1-B002-03AF25AF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C6142-1A65-45E3-84D7-3F130DDD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204C-F2FF-4757-A1F8-69B3FB01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5E754-3470-4BAD-81E7-0B13F2AE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2AA7F-B23C-49D9-941C-B69D9D10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EBBD6-32D3-4636-9644-0506E5F6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8FB22-418A-4132-AE50-44CA2DD8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F76D6-8A9A-4D82-88DC-B6BD6872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00B6A-38FE-4338-BED7-D7F09EBAF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5BDCC-2E57-4620-9615-4CD1BC4F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0DC8F-60FA-41DE-81E7-7A553D85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41A5A-8497-458F-AA8C-6A615C93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828DC-C0C7-410A-BF43-47C38F2A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9773-D64F-482C-8383-EC580E78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4ECC1-D35F-4707-ACAA-42A6E6E1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8A227-DD66-48B9-A205-648E95EC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C2BEB-36B1-4830-8BC6-056F96BF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A3EC2-F65D-48A1-A6F0-853ED345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1FE6C-AFA7-4C82-AB93-30029184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D8157-0459-4ABB-B841-2E4BF0D9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335D9-CFC3-4663-B36C-74C64C04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B5C5D-BD95-4018-A176-A7EF024B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9DB2B-0C6A-4FEE-A423-A359C5E05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7E6A-B7F9-4733-BC3C-9B5B9763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BF1D-C247-4CF6-88A0-EA6CD76E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34E1-7575-4FA0-AD5C-2866C899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5B78-ACB6-4232-A1AE-ACF5517A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E91A-1763-4962-ADEE-FBFD0743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B8A7-50DF-4EE2-83F1-9DE66A50761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8DE9-E039-4B9B-98CD-0DBE78B33B2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9972-E384-4FFA-B2B3-080D045CE31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3FF5-1D7C-48CF-9D33-BC3E9769F08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549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Qu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djective Claus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oups of words that act as adjectives to describe or identify a nou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se clauses follow the noun and begin with relative pronou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oun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lative pronou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. The ESL class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that Vicki teache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 on the Newark campu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199" name="Straight Arrow Connector 9"/>
          <p:cNvCxnSpPr/>
          <p:nvPr/>
        </p:nvCxnSpPr>
        <p:spPr>
          <a:xfrm flipH="1">
            <a:off x="3655800" y="4039920"/>
            <a:ext cx="3600" cy="6102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0" name="Straight Arrow Connector 11"/>
          <p:cNvCxnSpPr/>
          <p:nvPr/>
        </p:nvCxnSpPr>
        <p:spPr>
          <a:xfrm flipH="1">
            <a:off x="2664720" y="4039920"/>
            <a:ext cx="3960" cy="6102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Your Turn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are identifying adjective claus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do adjective clauses follow in the sentenc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do adjective clauses begin with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djective Claus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dentifying adjective clauses are really a combination of two shorter sentences about the same nou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. The ESL class is on the Newark campus. +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icki teaches the ESL clas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ESL class that Vicki teaches is on the Newark campu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lative Pronou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dentifying adjective clauses begin with relative pronou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o = person or people (sometimes animal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ich = thing or thing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at = thing or thing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= time or tim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re or in which = a place or pla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ose or in whose = posses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Your Turn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are adjective clauses a combination of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ame several relative pronoun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ich relative pronouns do we use for peopl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ich relative pronouns do we use for thing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djective Claus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relative pronoun replaces the noun it describes; the noun is NOT repeat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saw the horse. +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cientist was testing the horse. =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saw the horse that the scientist was test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 saw the horse that the scientist was testing the hors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Your Turn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bine each pair of sentences into one sentence using an identifying adjective claus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ever Hans was trained by a retired school teach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chool teacher had taught science for many yea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afternoon was cold and rain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at afternoon Clever Hans was ready to perfor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Your Turn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. 82 # 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. 8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21:15:42Z</dcterms:created>
  <dc:creator> </dc:creator>
  <dc:description/>
  <dc:language>en-US</dc:language>
  <cp:lastModifiedBy> </cp:lastModifiedBy>
  <dcterms:modified xsi:type="dcterms:W3CDTF">2011-04-10T21:45:07Z</dcterms:modified>
  <cp:revision>2</cp:revision>
  <dc:subject/>
  <dc:title>Identifying Adjective Clauses</dc:title>
</cp:coreProperties>
</file>